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BE49-7A91-4EB2-AA42-86C9601F4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3F04D-2C2F-47DD-B553-F9DA8C566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RIEC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EC is an employers’ council of all labour-market participants – essentially, any organization that has an interest in an employer’s ability to hire and retain talent in this changing labour mark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ncludes employers of all types, community organizations, business / industry and professional associations, all levels of government, labour,  educational institutions and individual lead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believe that with an increasingly culturally diverse population in the GTA, the key to being labour-market ready in the 2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ntury is based on being immigrant-read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, our mandate is to help GTA employers become labour-market ready by helping them become immigrant rea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EB0BF-A512-4A31-87B5-DBFF5F11C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836D-6F32-4E04-A6EA-7F7E9118EB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llenges of employer eng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contact (network development, create opportunities, leveraging existing partn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over of employer contacts (institutional involve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sales cycle (success as a factor of need, timing and capacit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contacts within organizations that are not coordi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ternal factors; i.e. recession (adjust mess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ing buy-in across all levels (champions, facilitating internal communications, pilot succes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ropriate and effective opportunities for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ployer fatigue (manage and coordinate ask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B440-F515-45F0-8B4B-721350CD8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09D4-E089-4206-8856-9AF0A636A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228600" y="228600"/>
            <a:ext cx="8686800" cy="12952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NewTRIECcolourGreyBkg"/>
          <p:cNvPicPr/>
          <p:nvPr/>
        </p:nvPicPr>
        <p:blipFill>
          <a:blip r:embed="rId2"/>
          <a:stretch/>
        </p:blipFill>
        <p:spPr>
          <a:xfrm>
            <a:off x="380880" y="304920"/>
            <a:ext cx="1828800" cy="1096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228600"/>
            <a:ext cx="8686800" cy="129528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NewTRIECcolourGreyBkg"/>
          <p:cNvPicPr/>
          <p:nvPr/>
        </p:nvPicPr>
        <p:blipFill>
          <a:blip r:embed="rId2"/>
          <a:stretch/>
        </p:blipFill>
        <p:spPr>
          <a:xfrm>
            <a:off x="380880" y="304920"/>
            <a:ext cx="1828800" cy="1096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6"/>
          <p:cNvSpPr/>
          <p:nvPr/>
        </p:nvSpPr>
        <p:spPr>
          <a:xfrm>
            <a:off x="152280" y="6400800"/>
            <a:ext cx="8686800" cy="276480"/>
          </a:xfrm>
          <a:prstGeom prst="rect">
            <a:avLst/>
          </a:prstGeom>
          <a:solidFill>
            <a:srgbClr val="5481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StoneSans"/>
              </a:rPr>
              <a:t>New Realities. New Opportun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3"/>
          <a:stretch/>
        </p:blipFill>
        <p:spPr>
          <a:xfrm>
            <a:off x="228600" y="1523880"/>
            <a:ext cx="8683560" cy="714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jpe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720880"/>
            <a:ext cx="861048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gaging employers on immigrant employment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4952520"/>
            <a:ext cx="78487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izabeth McIsaac, TRI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oronto LIPs Labour Market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14 April 201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Roadmap_sub-menu"/>
          <p:cNvPicPr/>
          <p:nvPr/>
        </p:nvPicPr>
        <p:blipFill>
          <a:blip r:embed="rId1"/>
          <a:srcRect l="0" t="10761" r="0" b="3585"/>
          <a:stretch/>
        </p:blipFill>
        <p:spPr>
          <a:xfrm>
            <a:off x="250920" y="2533680"/>
            <a:ext cx="8642160" cy="36385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4"/>
          <p:cNvSpPr/>
          <p:nvPr/>
        </p:nvSpPr>
        <p:spPr>
          <a:xfrm>
            <a:off x="2362320" y="1720800"/>
            <a:ext cx="5072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The Employer Road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www.hireimmigrants.ca/road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Roadmap_content-screen"/>
          <p:cNvPicPr/>
          <p:nvPr/>
        </p:nvPicPr>
        <p:blipFill>
          <a:blip r:embed="rId1"/>
          <a:stretch/>
        </p:blipFill>
        <p:spPr>
          <a:xfrm>
            <a:off x="250920" y="1523880"/>
            <a:ext cx="8642160" cy="51055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609480" y="4269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49636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oyer Worksh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 employers with strategies, resources and tools to eff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rui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lled immi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rui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ing channels to attract skilled immigrant job candi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gnizing international credentials; Identifying cultural biases and assumptions that can affect hiring deci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grate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inclusive work environments to ensure equal participation; Identify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ystemic barri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hat can prevent full inclusion; Building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ross-cultural competen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ndividual, organizational); Creating strategies for educating recruiters, hiring managers, and general employee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60948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CONNECT_logo"/>
          <p:cNvPicPr/>
          <p:nvPr/>
        </p:nvPicPr>
        <p:blipFill>
          <a:blip r:embed="rId1"/>
          <a:stretch/>
        </p:blipFill>
        <p:spPr>
          <a:xfrm>
            <a:off x="5334120" y="1600200"/>
            <a:ext cx="35812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8640" y="274320"/>
            <a:ext cx="79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38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 in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finding solutions for including highly skilled immigrants in Toronto Region labour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stakeholder collaboration: employers, universities, colleges, unions, community and immigrant organizations, occupational regulatory bodies, all three levels of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on: A Greater Toronto Region that prospers by fully engaging the contributions of skilled immigr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286000" y="533520"/>
            <a:ext cx="655164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RIE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2057400"/>
            <a:ext cx="2743200" cy="335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WAR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creasing employer awareness of the value of immigrant skills, education and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blic awareness (print, TV ads, media / public relatio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rategy development: identification of partnership opportunities / target groups, setting prioriti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3505320" y="2057400"/>
            <a:ext cx="2209680" cy="350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ACCEP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Increasing employer acceptance of the need to explore solutions and opportun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lationship development and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943600" y="2057400"/>
            <a:ext cx="2819520" cy="304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Enabling employers to take action and engage in solutions to recruit and integrate skilled immigrants into their workpl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rticipation in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Spokespers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Champ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  <a:ea typeface="Arial"/>
              </a:rPr>
              <a:t>Informing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6"/>
          <p:cNvSpPr/>
          <p:nvPr/>
        </p:nvSpPr>
        <p:spPr>
          <a:xfrm>
            <a:off x="1066680" y="6019920"/>
            <a:ext cx="6172200" cy="1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r eng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over of employer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contacts within organizations but not coord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ing buy-in across al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and effective opportunities for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sales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fa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loyer fati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5640" y="533160"/>
            <a:ext cx="655164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does TRIEC 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2276640"/>
            <a:ext cx="864216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nes and collaborates with partners, creating opportunities for skilled immigrants to connect to the local labour market.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individual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with key stakeholders, particularly employers, building their awareness and capacity to better integrate skilled immigrants into the workforce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organizational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24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 with all levels of government, enhancing coordination and effecting more responsive policy and programs for skilled immigrant employment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[systemi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14240" y="259920"/>
            <a:ext cx="6305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4114440"/>
            <a:ext cx="7993080" cy="22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ccupation-specific matches between a newly arrived skilled immigrant and their established Canadian counterp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2004, more than 5000 matches have been m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ly 80% of mentees surveyed have found full-time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icipation of 50+ corporate partners to recruit men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TMP new logo"/>
          <p:cNvPicPr/>
          <p:nvPr/>
        </p:nvPicPr>
        <p:blipFill>
          <a:blip r:embed="rId1"/>
          <a:stretch/>
        </p:blipFill>
        <p:spPr>
          <a:xfrm>
            <a:off x="4495680" y="2743200"/>
            <a:ext cx="3581640" cy="83808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6858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304920" y="190512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nts lack professional networks that help make linkages to employment opportuniti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ing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468360" y="213372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igrants lack Canadian work experience often required by employer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684360" y="3505320"/>
            <a:ext cx="81356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d internship program that provides first Canadian work experience, operated by Career Edge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ce 2003 over 1000 interns have been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ly there are over 350 active host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arly 80% of interns secure full-time positions in their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8" descr=""/>
          <p:cNvPicPr/>
          <p:nvPr/>
        </p:nvPicPr>
        <p:blipFill>
          <a:blip r:embed="rId1"/>
          <a:srcRect l="0" t="13406" r="83102" b="79408"/>
          <a:stretch/>
        </p:blipFill>
        <p:spPr>
          <a:xfrm>
            <a:off x="5562720" y="2590920"/>
            <a:ext cx="2741400" cy="93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TRIEC_posters_pg2"/>
          <p:cNvPicPr/>
          <p:nvPr/>
        </p:nvPicPr>
        <p:blipFill>
          <a:blip r:embed="rId1"/>
          <a:stretch/>
        </p:blipFill>
        <p:spPr>
          <a:xfrm>
            <a:off x="304920" y="1676520"/>
            <a:ext cx="3429000" cy="4800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Triec-Xerox_poster_smallsize"/>
          <p:cNvPicPr/>
          <p:nvPr/>
        </p:nvPicPr>
        <p:blipFill>
          <a:blip r:embed="rId2"/>
          <a:stretch/>
        </p:blipFill>
        <p:spPr>
          <a:xfrm>
            <a:off x="4114800" y="2076480"/>
            <a:ext cx="48499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ing awar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Logo STeam Whistle corp_grn_bg_sm"/>
          <p:cNvPicPr/>
          <p:nvPr/>
        </p:nvPicPr>
        <p:blipFill>
          <a:blip r:embed="rId1"/>
          <a:stretch/>
        </p:blipFill>
        <p:spPr>
          <a:xfrm>
            <a:off x="324000" y="2349360"/>
            <a:ext cx="1396800" cy="1513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9" descr="St. Michaels logo small_nobck.psd"/>
          <p:cNvPicPr/>
          <p:nvPr/>
        </p:nvPicPr>
        <p:blipFill>
          <a:blip r:embed="rId2"/>
          <a:stretch/>
        </p:blipFill>
        <p:spPr>
          <a:xfrm>
            <a:off x="2209680" y="2895480"/>
            <a:ext cx="1779840" cy="11559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IS_awards"/>
          <p:cNvPicPr/>
          <p:nvPr/>
        </p:nvPicPr>
        <p:blipFill>
          <a:blip r:embed="rId3"/>
          <a:stretch/>
        </p:blipFill>
        <p:spPr>
          <a:xfrm>
            <a:off x="3124080" y="1600200"/>
            <a:ext cx="701640" cy="10303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4038480" y="19051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migrant Success Aw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8" descr="i3-DVR-Logo_nobck.psd"/>
          <p:cNvPicPr/>
          <p:nvPr/>
        </p:nvPicPr>
        <p:blipFill>
          <a:blip r:embed="rId4"/>
          <a:stretch/>
        </p:blipFill>
        <p:spPr>
          <a:xfrm>
            <a:off x="6629400" y="2819520"/>
            <a:ext cx="1336680" cy="66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Nytriclogotm_RGB.eps"/>
          <p:cNvPicPr/>
          <p:nvPr/>
        </p:nvPicPr>
        <p:blipFill>
          <a:blip r:embed="rId5"/>
          <a:stretch/>
        </p:blipFill>
        <p:spPr>
          <a:xfrm>
            <a:off x="4724280" y="3048120"/>
            <a:ext cx="1263600" cy="11300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4" descr="EY_black_e_RGB.eps"/>
          <p:cNvPicPr/>
          <p:nvPr/>
        </p:nvPicPr>
        <p:blipFill>
          <a:blip r:embed="rId6"/>
          <a:stretch/>
        </p:blipFill>
        <p:spPr>
          <a:xfrm>
            <a:off x="3851280" y="5516640"/>
            <a:ext cx="1981080" cy="450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1" descr="XeroxResearchCentre_RGB.eps"/>
          <p:cNvPicPr/>
          <p:nvPr/>
        </p:nvPicPr>
        <p:blipFill>
          <a:blip r:embed="rId7"/>
          <a:stretch/>
        </p:blipFill>
        <p:spPr>
          <a:xfrm>
            <a:off x="1332000" y="5373720"/>
            <a:ext cx="2057400" cy="892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H2MLOGO_RGB.eps"/>
          <p:cNvPicPr/>
          <p:nvPr/>
        </p:nvPicPr>
        <p:blipFill>
          <a:blip r:embed="rId8"/>
          <a:stretch/>
        </p:blipFill>
        <p:spPr>
          <a:xfrm>
            <a:off x="3124080" y="4572000"/>
            <a:ext cx="2171880" cy="6112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Logo GBC 2007 logo_301"/>
          <p:cNvPicPr/>
          <p:nvPr/>
        </p:nvPicPr>
        <p:blipFill>
          <a:blip r:embed="rId9"/>
          <a:stretch/>
        </p:blipFill>
        <p:spPr>
          <a:xfrm>
            <a:off x="611280" y="4076640"/>
            <a:ext cx="1800000" cy="1349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FST_logo_RGB.eps"/>
          <p:cNvPicPr/>
          <p:nvPr/>
        </p:nvPicPr>
        <p:blipFill>
          <a:blip r:embed="rId10"/>
          <a:stretch/>
        </p:blipFill>
        <p:spPr>
          <a:xfrm>
            <a:off x="6705720" y="3809880"/>
            <a:ext cx="1636560" cy="10749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pg 10 TRCA-colour"/>
          <p:cNvPicPr/>
          <p:nvPr/>
        </p:nvPicPr>
        <p:blipFill>
          <a:blip r:embed="rId11"/>
          <a:stretch/>
        </p:blipFill>
        <p:spPr>
          <a:xfrm>
            <a:off x="6300720" y="5157720"/>
            <a:ext cx="22622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20:13:15Z</dcterms:created>
  <dc:creator>Stephen Wilson</dc:creator>
  <dc:description/>
  <dc:language>en-US</dc:language>
  <cp:lastModifiedBy>sguerra</cp:lastModifiedBy>
  <dcterms:modified xsi:type="dcterms:W3CDTF">2010-04-15T18:57:57Z</dcterms:modified>
  <cp:revision>62</cp:revision>
  <dc:subject/>
  <dc:title>Slide 1</dc:title>
</cp:coreProperties>
</file>